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8240-0D29-4DD5-992A-A0D1BCD0B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867F-34A3-4385-A191-1A46FD10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98930-F5D3-41B4-BB2E-BA383691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C8E95-30B3-4293-8AF9-59C574E3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915E5-A1AA-48AD-B382-2C617A12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C2B68-8250-4248-8AE1-3316C5DE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DA1DC-8E70-4977-A2E2-E37B7FE9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7390A-00EE-4D6F-8051-CA8224BC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34692-B80A-468F-A424-71991E8B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3CC70-599E-4982-87F6-DC4339D72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668D5-599B-4DAF-AD7A-B8E2EC2AB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F3244-047F-42D5-891E-7A10613C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12CA-1818-4DB2-8E53-A17743C5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4D8C7-0367-47CD-82BE-FFAA1707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DA582-01C5-4795-8572-AE6D8AB1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0B642-0FCE-4445-9044-AF87DCD5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AE744-F02B-4B79-A8B3-ACA4968C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7FBC9-BE7C-4F6A-AF09-13020545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7574D-9E2B-4DE9-BC0F-71EED499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DF8D0-AC61-4952-86A0-43FF12D4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6DEDC-F123-4DF2-95D8-AA523C22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B9FCE-1764-4AD2-996E-086FF23D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35D6D-C344-4DC3-9E28-9C9A06074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D458-426C-4BAE-8CD5-4F88DE46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167A7-CE86-4699-9B63-67249C5AD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5869D-87E2-4954-8D2F-E57B0174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7354C-1460-4E68-B5C8-5DAF0B28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01BCD-03D7-400F-8717-0FFA4919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71B56-1B23-489D-9AEF-8AAB5F08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6BC4E-A5C3-4684-9AAF-7B549F42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07978-DD4B-44F7-82CA-00EEFC8D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2BC0C-3139-48A3-ADAB-DB5460BD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665F9-7373-4CF7-8689-8285055E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F20CE-2316-40A9-8029-FFA7855F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242B-932D-41A5-A03E-2EC18F1FD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B5A2B-44B5-47E6-A1F7-7A99231E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01345-F9BC-4EB3-B4A1-1D9AE464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CA1A4-9450-4135-B881-D61F785C9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CA59A-17FB-4B34-B453-D83EAB429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A87482-FBCD-4546-908E-707B4623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88341-5AF3-4FD0-9E70-C4FA5B26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F76A0-4546-4916-8D86-DC0F1922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9813F-D867-42F8-9B3A-16E5D2F6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E7B70B-440D-42E0-8C8E-9C96FB14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F9D5A-C09E-4B68-9FEF-A895C313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96DC-7707-4CF3-8074-50E79844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B0E27-87E9-45AE-A20A-55A3653C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514D8-B8F6-4B2E-B1EA-A829BE05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BB8F1-8F43-4A93-81A5-D6720173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82A5C-71DF-4799-9156-14F8F50DD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4D97D-55E7-4EF6-877B-42CA77341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35058-6E97-41F8-9403-1DCE417C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F66EC-C2FE-49A9-AECC-70E1C401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6E2A5-9DCE-4E67-99BD-86F77E58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BB6B7-6454-4991-8DFA-BADB349A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950DE-E368-4D77-8EFB-C39C652D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72B2-7D9C-4490-AC98-70C79405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F2F09-5391-4B9D-A143-1FD49207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30D6E-D6C8-4B25-B264-F9B83B6D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BB9AB-3851-45CD-AD37-C2DC7EC1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6E473-E5AE-4EF6-A5FA-0D0251C6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FE251-6339-4665-9318-90389EC3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37863-DD33-4DAA-BD8B-3807E04E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F6EEC-61F7-49C8-9AEF-E715A3D4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C2C41-A5DE-480F-A0A3-56909B22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DE80F5-D5FD-4A76-9928-216C7EDA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F08E6B-3ED4-4B3C-AFF5-F223C78C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FA20-497A-4972-91B2-990717CD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3420A4-F64C-44C9-97D8-4D3E22F6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0614D7-F279-49B7-938B-6DD51270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A17B9-FD33-45C4-9CC8-F43752CC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532C2-C6B5-4506-8EC0-EC744E7D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95644E-5616-4C2A-8B88-E64E56D5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AAC8C7-B9A8-4C83-8A62-270C791B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E58509-A0B8-4EFF-8BA3-F246FAE6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9AB8A-1C2B-41EF-8341-E72A3BAA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311958-36C5-485E-8049-F7A8720A0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FFCDAA-CE39-4ACE-8BA7-49DD44AA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7F24-AF94-4563-9864-AB8EC061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D4F767-1F8F-4039-854E-112700A1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687804-7397-48D0-887D-04F3D884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951598-29CF-4120-8671-ECB6E1CE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D7CD9B-8274-48FB-86FE-E51D1A29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F87FEC-9B1B-4E1A-87DB-F88EC8FC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E8B7A4-C049-4E17-A5D9-4B39E5B9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6537A9-681C-4C0C-9723-99AFF92D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AB1C2B-B819-4DB6-9D55-1A125359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257402-4F58-4E97-AA5E-D3063FC2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40DC4F-9D72-4FCB-8DA7-FA5EEA0A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8F58-68F0-4964-AC21-E206B604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2D7432-7E18-47DD-9CD0-57BAC1765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C663BB-8460-4AD2-AB37-884C03DE2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97C8F2-F371-4F0C-B399-0CBF7C97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CB18BF-8D39-453B-A5B1-D6E325DE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FC7526-37BD-446E-A8C3-95C6D40C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35DA09-CD09-4F76-9E22-FB0F0F6E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4030D1-9F77-4A96-921F-D03FF015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7FBB1D-D332-4449-911A-10E1073E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4EEB3A-F909-4450-80D2-393EB092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4EBD9F-FE88-44C2-AE86-2B9D382D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399F-F98E-4452-93EE-BAF50B3E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734CA7-A343-482E-8E38-AD1AA81E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1633AA-A13E-4ECB-9360-1FBFD3A8F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E563E4-1D20-4FE5-8354-8D0C88F71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B5522A-2CB6-424B-9233-716A0F0D2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F3880C-FA5A-461F-B4BB-C9DFB09A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B26938-76C6-42F8-B878-68E98173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D286A0-CEDA-4C69-987F-E25E3293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628609-45CD-42AF-AAC8-6567046D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B5AA10-3304-4B8D-AB0E-57D57D39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04B269-5956-48EA-B13C-051EE282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98D9-7C81-4994-973C-3AB16A83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C001-2DCE-4FAE-AA77-7A305E0D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4B7263-C896-4792-8379-2AB73CE5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37AF84-BA4F-4D7E-9534-6394B881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C4B8D6-420A-4C32-8A53-0A5397AD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BA18A3-9A79-4B5E-9D2A-8D39AF5CD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350D8E-BBF8-4F71-B9B3-E5A1B7513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F07657-6009-484B-9519-FCDC5A7A1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8BAF18-ABAC-4BD5-AF1E-67A667B9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25CAF2-24B2-41DB-81B2-EA5B273E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2E3C6E-160B-4510-AFA8-DE6F6B86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717103-974E-4BAC-B7B7-CD829254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B604-3F42-4FB2-9962-D2BF9634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443A34-927B-4925-9FE2-F401FA61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05551A-0263-41C3-9BFA-D3FF91E6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5BCD56-0A87-4FF6-9D0F-38F4D8B5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DC5949-2D6B-466B-832C-3CF7D51C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9AB245-BFB4-44D7-B16A-E1942035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4CC00D-61E9-4497-A56D-EE249ADF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5BA349-64E0-4367-B2CE-6CC86AEC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025C39-D57A-41F5-A7F4-DAACDD171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EC6B6B-7308-43FA-96DC-005C4086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079DBC-2C7D-4ED3-A505-4027246B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C76D-BBBD-4E18-8115-DC9BA4B5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74ACD9-D4B8-4356-9F6D-2F7A76F4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644C73-6832-42BD-8E71-6225C074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C13839-03E8-4611-8199-72337A7D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A85B2E-10A0-445F-9EEE-41BB3FDF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419F42-F23E-44B5-99FA-94FCD5CD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433408-4680-4ED6-B8A4-F5A16ACD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C8B26C-266C-417B-BA18-DDABA476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F6C128-DD45-4B1B-AC9A-E311C308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77EFFA-5879-4FA2-82F2-2828F74E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3AA61C-CCE1-4013-9346-00DDFCFC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3719-3F3D-4C60-BA6D-91DE2640E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F3FBAC-A082-4510-A8E4-1D0D4E95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5AC198-42CE-473F-ABD7-4A02E438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B8AEC3-09BD-43E8-83A4-F6DD744A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CE8266-735F-48B0-A881-992CC17C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5803BD-549B-4C2F-94EA-C2319532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BF0E7A-C5EB-4F87-8A1E-B6F156DC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2ACDEB-C8EC-4BD5-A2C8-7BD9F593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ED03FA-491E-4A79-923B-B3AEDF8C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2CA0F4-3B92-4640-9D2D-F9D7A143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C69BA9-4BBC-4377-9B41-5A22C22CB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E524-2AB7-420F-AA2B-475C78859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DB0FC4-7E5D-4C81-B857-8E587658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3D94BA-35C3-457C-911B-A13A8E469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90B043-5E07-45C0-B851-7CE559AB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535EE9-2053-4382-8A26-92D19C59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7DD4CB-3D32-4243-A2DB-451D6C9A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FB47DA-D52C-4994-BE65-8B4F2ED0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A2580A-4ADB-4093-9399-8782D2C4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E31121-9A13-4630-801C-EE1EEA30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9D084B-7ADD-48F0-8BDD-64B09CBE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D96E92-9657-4B2E-96A8-2A170EF3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7A7C8-A836-4326-BA32-F55C3B55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FDED00-5988-4F86-9969-7538D73A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5D5454-5829-48F0-AF96-3009AA1B2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2D94AE-24F8-43C2-8A2B-888E2F3F7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730ECA-AA6E-4F8E-9351-E5537DA8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F1D5E7-9B5B-469F-AC1D-9DB269F2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706C66-C460-4BC0-AEB3-772FAC0A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A94C7E-A985-446E-9230-A2E2D2ED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0BB825-410A-4F10-A2B2-72CD8A92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B23597-152E-40F0-BB6A-931573BA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FB1FCE-5C7A-4A5A-A050-51C5A395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1EB53-398B-4D46-916A-D75B52DF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D11D98-73E1-467F-BA9A-1FE1138C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9F15A6-1B14-4969-9BE5-7AAB3312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3F3BF6-6A8A-4676-AA54-EDBA1292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587AB1-6590-402A-B8F2-9D625D57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3E8731-064B-4632-B90F-508E029D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F9A31E-4AB3-4DD2-BF19-9066E7DF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485C83-AB2E-44D4-9B76-E0CDC042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E75909-257B-4B61-A04C-84CF60C0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367594-1797-4A80-AC6D-84C27BDE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D2A0FF-173D-49B0-93CE-0A039866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4A8FC-529C-4BC0-B95E-250BDEEB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F4A9CA-7F76-4A75-9110-B8CC7541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6950D7-4E2F-4E2F-BB5F-8D83703D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5095BD-B7B2-422F-BCE7-ACF978E6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F93F88-44BB-4BF3-AD06-F02E5CD0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D0960F-5195-451B-886D-BE0519F0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7097B4-BC3F-4AE4-92CF-10A41F9B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E49BFA-BCB0-418B-85EF-A54778A9B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1E3B14-1C91-4741-BD16-E7535F59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4EF365-F81F-47E0-A844-60164BA3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E9FF7F-04BF-4B8F-ABF2-36CBBC5C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D4B58-7749-4DA6-86D7-93E87C67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BE8860-4964-472E-B434-F0D582D8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34D01E-C07F-43E7-A6EF-45FE6704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4964C1-E007-4F18-9053-E985220E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802219-426C-4493-8B64-488F8615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A51C67-1D17-4651-BCE3-C5C3D584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5F4070-8CC5-4A46-9577-F47CD557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74FDC7-EC85-4821-BFBE-2371218C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5E0DD0-DA8B-421E-A475-8F2F7C106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3080AB-9346-4130-B340-831B8F90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0D7870-11A1-4CA5-A394-5A290FD1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E2D49-1D9D-4458-B290-FB82C8F3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F1B03D-3F58-4EBB-A79C-E068A5E6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69E0CD-F52B-4903-8E35-6BAE2EFD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42E9F1-86BC-4876-869D-63A04682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7B9FD6-9DD8-4D16-83DA-F1CAA618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593D62-86A7-433A-9528-AD99E2B9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95573C-B108-4C65-9974-92BA31DD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C1A6CC-D9B1-4663-8999-5E0192B4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75A621-5BE0-4B2C-BB85-C201011E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1AE9EE-6F2F-43D3-BBB9-74D791BF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593173-8D9B-42F2-A390-F7B5A7E29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0751-B609-4919-BFFE-3BC5598F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6B8F6-7442-4027-B926-C9A95321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617298-87EE-485C-AE85-912BA6651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3758E0-3386-44E3-BA73-C8724B8F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DE82EF-E5E4-485C-8F53-63719F1E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2282F2-5D33-49C3-9C72-E4354CB0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A0477E-2EFC-4B91-AEFB-E9639577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902ADF-D972-4A83-8899-CF442CF7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F81A78-458C-438E-BCA1-94EE2064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DEA220-C06F-46ED-9763-02732F5E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3FA7A2-4B54-4B0E-A224-B717B8B3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1071C9-474B-4889-BE2A-6B2D8700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1E02C-E2F2-4863-BA01-82BEF0D9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3F9345-B26F-4291-ACED-F1F85053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2A2568-3540-4446-BCDC-C5654072A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7EDCBE-C70D-468D-B34F-0C1905C1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125247-F93F-418F-A04F-4BC55765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06853F-B7D5-406E-AF19-F0549530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E5D6DA-199D-464E-A2F2-11A42BE6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2A60FE-DC63-4840-AF21-0DFC00FF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AED68A-EECB-4EF0-AF08-C0248BE8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AF4434-0CA1-4838-BA1F-A1B3C8AA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048F96-7AB5-43F1-A8AE-9A2BB9E4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7DCCF-5426-48C3-BECB-D9A7E856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840D5D-994B-4179-B860-99B739D0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5C3600-E441-4D4E-AAFD-86C429BE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C7A669-8164-41F7-BB65-80F908B0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1BE44D-74D9-4C0E-B427-C09394492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E95EA2-03F9-4175-8D10-E16332A0B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EA60E5-00D2-45EF-AD3D-F9AEDD63C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6CF95C-854C-4B6B-AF47-4138BE85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7DFFCC-E3BD-446F-8617-89EEF71B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B353FD-BB7E-4C93-B0F5-3E301D70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22A232-2BF0-4AFB-BEFB-CF832D25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07243-5A0A-4E93-B6C0-81AF1E00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5D0E5A5-6D78-4D32-92CE-A3AA8FC6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645C9A-B6A9-483F-80E4-0CAC2321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755581-0129-4666-9F9A-5203BB7F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D1DBDE-8954-49DD-A88D-1D97FB2B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F5BC57-C97E-41E3-BA2A-476B7403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4AC632-CE60-4825-B484-577727AC3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FE8A7F-AF18-4075-80FA-A0E52BF47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B59EE-4F04-444A-A159-7C6F398A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3E29B-4C04-472D-8EAF-27CA485B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5B4BF-4D9E-4D84-8F71-A6626990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4B61-2B8E-4D23-8EE2-B90694F4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522E-1C84-4DC3-9694-5948F566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095D-9E27-4348-808F-DA2137A9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6D435-E4D3-4166-9AF4-5D335199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6AE28-FCD4-48BC-AA03-20E51658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DBF81-4CB5-4BFC-AC06-EDAEDB7E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CD2E3-60C5-407C-8A6A-79EF5A18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F74F7-F95E-430C-A733-B2800C80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74168-C9C1-4CB1-8068-FE528373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C6EF2-5DA3-42C6-9B1A-D04B73EA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7CB91-361D-4322-8C34-CC3B45B9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3F0CF-ED0A-46D1-B81C-988E80F4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2CC1-00A2-4E01-B822-D3B1DFDF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001B3-6652-44C7-9C6C-1D1B783E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D16F1-2155-4641-91A3-3F71224EC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45588-8C4D-495A-AE09-BF5FF28F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66C54-54EB-4374-BD5C-FEA60450E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0BE1B-D80E-46AB-8EDE-A077B245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EEE53-FC2E-47ED-B4FE-87E8BFA1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1C6A5-ADB7-49DD-B7B8-3AC19243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7FD63-289F-4492-BCFC-A9CEB5EC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550FF-4969-4D36-A92E-8B368696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35B97-56CA-429E-B2A0-9FF0DD12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2D9A-D2B2-49EF-9C02-6D45560D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46247-C0E9-46CE-A884-B377E3E1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89ACC-5048-4768-9B39-A03C31E9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7FD42-271E-4CE4-9580-C584F134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74F42-29B1-4575-9E1B-686F9073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16CCA-BA52-4894-AADC-023CBF56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68E17-FF0B-4B91-A05C-B4EAEA2A1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3A50F-E7C3-42E6-813A-494519C9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4317C-D92E-44DD-A6E1-BCC7757B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F773C-8274-4F40-A511-43209F1C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16917-B161-44A1-B00F-5EBF5FAF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1721-84B8-479B-A1E6-DEB24F16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7E0D5-E1D5-48E5-AC15-68BDD568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34983-F5E4-493A-8FBA-64516780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D29E1-BB8D-4D1D-980A-417AE9C3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9942A-6252-48C0-8638-F392AE02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0F984-0BE3-4D57-8342-181A3C65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05FBD-01E8-446D-A043-3E2BDF54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CA5DA-8DFD-4101-B148-DC8FAF236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70E5F-F90A-40EA-8C9A-66927C99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C0793-32F1-4CA7-B717-5ED2A274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D484B-888F-49FD-A2B7-9FA76F0C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CFF3-DD48-484A-9DBC-5A1428B0620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iRespond Question M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dt" idx="22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ftr" idx="23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Num" idx="24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CAC3-5C38-41A7-AABB-EBB1CA989A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iRespond Question M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dt" idx="25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ftr" idx="26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Num" idx="27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75AF-93DC-4831-B85E-F07DE6B170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iRespond Question M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dt" idx="28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ftr" idx="29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sldNum" idx="30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9E04-DAC6-4DFB-A9F3-9314499D4A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iRespond Question M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dt" idx="3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ftr" idx="3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sldNum" idx="3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22CB-7EEF-434C-A664-6C468D2FDE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iRespond Question M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dt" idx="3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ftr" idx="3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sldNum" idx="3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D6F8-2326-42FB-841E-1A8A6098EE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iRespond Question M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dt" idx="3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ftr" idx="3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3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7800-5C79-4B01-AB03-429060927D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iRespond Question M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dt" idx="4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ftr" idx="4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sldNum" idx="4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4CE3-EFE5-4A67-BCC4-33D8AF0138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iRespond Question M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dt" idx="43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ftr" idx="44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sldNum" idx="45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D931-E41D-45B0-81DB-9743C01F2D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iRespond Question M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dt" idx="46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ftr" idx="47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48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ED31-1002-420B-99B5-2544DF6A70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99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02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08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912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18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25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9" name="PlaceHolder 1"/>
          <p:cNvSpPr>
            <a:spLocks noGrp="1"/>
          </p:cNvSpPr>
          <p:nvPr>
            <p:ph type="dt" idx="49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ftr" idx="50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 type="sldNum" idx="51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A21F-B025-45E0-89E2-72959E453F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A42E-2090-486A-9397-6093C1E46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70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73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8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79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983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89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96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0" name="PlaceHolder 1"/>
          <p:cNvSpPr>
            <a:spLocks noGrp="1"/>
          </p:cNvSpPr>
          <p:nvPr>
            <p:ph type="dt" idx="52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ftr" idx="53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sldNum" idx="54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9E45-7B28-40B9-B8CC-9B89A031BD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4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3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044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05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54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6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067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1" name="PlaceHolder 1"/>
          <p:cNvSpPr>
            <a:spLocks noGrp="1"/>
          </p:cNvSpPr>
          <p:nvPr>
            <p:ph type="dt" idx="55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ftr" idx="56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 type="sldNum" idx="57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19C1-331A-48E6-8B02-94262E2BB3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1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12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4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15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21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25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0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31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38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2" name="PlaceHolder 1"/>
          <p:cNvSpPr>
            <a:spLocks noGrp="1"/>
          </p:cNvSpPr>
          <p:nvPr>
            <p:ph type="dt" idx="58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ftr" idx="59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sldNum" idx="60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0F40-819D-4961-95A1-0174BD2C5D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2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83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5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86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1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92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5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96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1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02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8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09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3" name="PlaceHolder 1"/>
          <p:cNvSpPr>
            <a:spLocks noGrp="1"/>
          </p:cNvSpPr>
          <p:nvPr>
            <p:ph type="dt" idx="6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ftr" idx="6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 type="sldNum" idx="6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BE5E-8352-4C94-AA28-557928022A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3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254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6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257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2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263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6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267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2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73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9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80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4" name="PlaceHolder 1"/>
          <p:cNvSpPr>
            <a:spLocks noGrp="1"/>
          </p:cNvSpPr>
          <p:nvPr>
            <p:ph type="dt" idx="6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ftr" idx="6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sldNum" idx="6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8947-6FB6-4798-BF72-1E030A8B0E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32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7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328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33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7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338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34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0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351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5" name="PlaceHolder 1"/>
          <p:cNvSpPr>
            <a:spLocks noGrp="1"/>
          </p:cNvSpPr>
          <p:nvPr>
            <p:ph type="dt" idx="6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ftr" idx="6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sldNum" idx="6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0204-35B6-4793-9E3B-388CCCF8D0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39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8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39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40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8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40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41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1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42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6" name="PlaceHolder 1"/>
          <p:cNvSpPr>
            <a:spLocks noGrp="1"/>
          </p:cNvSpPr>
          <p:nvPr>
            <p:ph type="dt" idx="7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ftr" idx="7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 type="sldNum" idx="7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384D-78E9-415A-BD65-AE43AF1F05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46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47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47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48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48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49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7" name="PlaceHolder 1"/>
          <p:cNvSpPr>
            <a:spLocks noGrp="1"/>
          </p:cNvSpPr>
          <p:nvPr>
            <p:ph type="dt" idx="73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 type="ftr" idx="74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 type="sldNum" idx="75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03D8-86C8-40E7-A50C-94C25FDE09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538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0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541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6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547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0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551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6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557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3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564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8" name="PlaceHolder 1"/>
          <p:cNvSpPr>
            <a:spLocks noGrp="1"/>
          </p:cNvSpPr>
          <p:nvPr>
            <p:ph type="dt" idx="76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 type="ftr" idx="77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 type="sldNum" idx="78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85E2-1AF7-403B-BADE-7C10AEE6D0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BDE2-1809-438E-B2CF-107F30F3352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121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12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124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iRespond Question M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21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218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22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228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23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241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B84F-191E-464B-8295-15C43E1452A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3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4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5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D120-43AA-4445-A35D-8B3326E84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6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6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4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375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379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44A1-2895-41F6-BD47-0F3EC2B9882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iRespond Question M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dt" idx="19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ftr" idx="20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E921-1CCF-4627-A79A-632ECD91F2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yphens, Ellipses, Parentheses, &amp; Dash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The Brenham Writing Room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Created by D. Herring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685440" y="-152280"/>
            <a:ext cx="68706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yphen -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hyphen is used 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11160" indent="-490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in words that together form a compound adjective placed before a nou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261800" indent="-420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 on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ixteen-year-ol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ud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261800" indent="-420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chael Jackson had a ve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igh-profi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urt ca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1160" indent="-490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out numbers from twenty-one to ninety-n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261800" indent="-420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eventy-fiv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udents turned in an essa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1160" indent="-490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w a word break at the end of a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261800" indent="-420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break between syllables. Ex: stu-d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lipses . . 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ellipses to indicate that info has been left out in a quot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inal Passage: I knew that the places I wanted to go on vacation, such as Hawaii or Jamaica, I couldn’t afford.  -Ms. Picket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s. Pickett told us, “I knew that the places I wanted to go on vacation . . . I couldn’t afford.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using ellipses, leave a space before and after each peri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entheses ( 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a parenthesis to set off extra information that is not essentia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 dog’s favorite toy (a stuffed alligator) is laying out in the yar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should generally avoid using parentheses in academic writ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shes 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dash is created by hitting the hyphen key twi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not put extra space around a das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a dash to set off words for emphasis or to indicate a paus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inal exam—worth 15% of your final grade—will be next Thursda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will be no make up exam—no exceptions—for this cour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7:48:23Z</dcterms:created>
  <dc:creator>dawn.pickett</dc:creator>
  <dc:description/>
  <dc:language>en-US</dc:language>
  <cp:lastModifiedBy>Nadia Williams</cp:lastModifiedBy>
  <dcterms:modified xsi:type="dcterms:W3CDTF">2014-03-07T19:52:05Z</dcterms:modified>
  <cp:revision>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toReflect">
    <vt:bool>0</vt:bool>
  </property>
  <property fmtid="{D5CDD505-2E9C-101B-9397-08002B2CF9AE}" pid="3" name="KeepGraph">
    <vt:bool>0</vt:bool>
  </property>
  <property fmtid="{D5CDD505-2E9C-101B-9397-08002B2CF9AE}" pid="4" name="ShowTimer">
    <vt:bool>1</vt:bool>
  </property>
</Properties>
</file>